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975-1F99-49EF-A86A-390CF749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06B-4185-4EA2-BEDD-48961F89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E50-F678-44CA-A3D1-5408BFB4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914-003C-4F3F-A9B9-8316499D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AFFB6-E0A9-4ED5-9D84-6878F14A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D1A70-1AF7-4DCE-9A6A-9E8C6A3D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000B7-7E71-4A27-8BC7-0F2CA126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34C80-DAA2-42EF-B06E-847DC8A0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C2002-AE6B-4448-9F0B-DDBC0A85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45BE7-DD98-4FFA-9F8F-1C29D6DF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75655-3BA0-43D5-8681-4AB3FF9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5DE-1120-4D62-AD28-FB4DFFD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8CC36-0C31-4DFD-B6A4-041D2F66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50A47-C0C1-43D1-A889-73040C5C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4693-C895-4519-9E8D-9E96BF80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6475E-6115-4D3F-9E3E-BF97C021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0B4D5-CFAC-4001-8201-E984B606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66A-BE03-4B5D-BD15-B44C40C1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DFF-67B4-4004-AF77-32F12B3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F21-82D1-402F-83F0-FE1F12CA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9FE-7589-4624-9D57-47A46AEF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A75-83FE-4A89-88D9-D2B12A94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276-4A46-4893-8834-BA77A45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7B6-8FBD-4EC5-A6EE-B53B603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F014-5C5F-4F89-A7F7-C33B96D2E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C4C3-B47F-4D53-9B06-B1934EEA6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2777760" y="429264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bierno de la Provi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386080" y="4797360"/>
            <a:ext cx="381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SANT  AGO DEL ESTER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9" descr="sigamoscreciendo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877080" y="5229360"/>
            <a:ext cx="1368360" cy="34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santi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132000" y="4869000"/>
            <a:ext cx="184320" cy="285480"/>
          </a:xfrm>
          <a:prstGeom prst="rect">
            <a:avLst/>
          </a:prstGeom>
          <a:ln w="0">
            <a:noFill/>
          </a:ln>
        </p:spPr>
      </p:pic>
      <p:sp>
        <p:nvSpPr>
          <p:cNvPr id="87" name="Line 11"/>
          <p:cNvSpPr/>
          <p:nvPr/>
        </p:nvSpPr>
        <p:spPr>
          <a:xfrm>
            <a:off x="684360" y="5877000"/>
            <a:ext cx="74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484360" y="6093000"/>
            <a:ext cx="453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R  E  P  U  B  L  I  C  A     A  R  G  E  N  T  I  N  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6" descr="sembrado"/>
          <p:cNvPicPr/>
          <p:nvPr/>
        </p:nvPicPr>
        <p:blipFill>
          <a:blip r:embed="rId4"/>
          <a:stretch/>
        </p:blipFill>
        <p:spPr>
          <a:xfrm>
            <a:off x="611280" y="1630440"/>
            <a:ext cx="2079360" cy="714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7"/>
          <p:cNvSpPr/>
          <p:nvPr/>
        </p:nvSpPr>
        <p:spPr>
          <a:xfrm>
            <a:off x="2700360" y="981000"/>
            <a:ext cx="52275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inisterio de Producció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cursos Naturales, Forestación y Tier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55640" y="836640"/>
            <a:ext cx="1549440" cy="1542960"/>
            <a:chOff x="755640" y="836640"/>
            <a:chExt cx="1549440" cy="1542960"/>
          </a:xfrm>
        </p:grpSpPr>
        <p:pic>
          <p:nvPicPr>
            <p:cNvPr id="92" name="Picture 34" descr="semicirculo"/>
            <p:cNvPicPr/>
            <p:nvPr/>
          </p:nvPicPr>
          <p:blipFill>
            <a:blip r:embed="rId5"/>
            <a:stretch/>
          </p:blipFill>
          <p:spPr>
            <a:xfrm>
              <a:off x="755640" y="836640"/>
              <a:ext cx="154944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5" descr="pino"/>
            <p:cNvPicPr/>
            <p:nvPr/>
          </p:nvPicPr>
          <p:blipFill>
            <a:blip r:embed="rId6"/>
            <a:stretch/>
          </p:blipFill>
          <p:spPr>
            <a:xfrm>
              <a:off x="1013040" y="1119240"/>
              <a:ext cx="2635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8" descr="pino"/>
            <p:cNvPicPr/>
            <p:nvPr/>
          </p:nvPicPr>
          <p:blipFill>
            <a:blip r:embed="rId7"/>
            <a:stretch/>
          </p:blipFill>
          <p:spPr>
            <a:xfrm>
              <a:off x="1324080" y="1065240"/>
              <a:ext cx="2635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9" descr="pino"/>
            <p:cNvPicPr/>
            <p:nvPr/>
          </p:nvPicPr>
          <p:blipFill>
            <a:blip r:embed="rId8"/>
            <a:stretch/>
          </p:blipFill>
          <p:spPr>
            <a:xfrm>
              <a:off x="1603440" y="1039680"/>
              <a:ext cx="263520" cy="6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2340000" y="263700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RECCION GENERAL DE INDUSTRIA Y COMERCI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55640" y="836640"/>
            <a:ext cx="1549440" cy="1542960"/>
            <a:chOff x="755640" y="836640"/>
            <a:chExt cx="1549440" cy="1542960"/>
          </a:xfrm>
        </p:grpSpPr>
        <p:pic>
          <p:nvPicPr>
            <p:cNvPr id="98" name="Picture 34" descr="semicirculo"/>
            <p:cNvPicPr/>
            <p:nvPr/>
          </p:nvPicPr>
          <p:blipFill>
            <a:blip r:embed="rId9"/>
            <a:stretch/>
          </p:blipFill>
          <p:spPr>
            <a:xfrm>
              <a:off x="755640" y="836640"/>
              <a:ext cx="154944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5" descr="pino"/>
            <p:cNvPicPr/>
            <p:nvPr/>
          </p:nvPicPr>
          <p:blipFill>
            <a:blip r:embed="rId10"/>
            <a:stretch/>
          </p:blipFill>
          <p:spPr>
            <a:xfrm>
              <a:off x="1013040" y="1119240"/>
              <a:ext cx="2635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8" descr="pino"/>
            <p:cNvPicPr/>
            <p:nvPr/>
          </p:nvPicPr>
          <p:blipFill>
            <a:blip r:embed="rId11"/>
            <a:stretch/>
          </p:blipFill>
          <p:spPr>
            <a:xfrm>
              <a:off x="1324080" y="1065240"/>
              <a:ext cx="2635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9" descr="pino"/>
            <p:cNvPicPr/>
            <p:nvPr/>
          </p:nvPicPr>
          <p:blipFill>
            <a:blip r:embed="rId12"/>
            <a:stretch/>
          </p:blipFill>
          <p:spPr>
            <a:xfrm>
              <a:off x="1603440" y="1039680"/>
              <a:ext cx="26352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1197000"/>
            <a:ext cx="7993080" cy="475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fraestructura de apoyo al sector industr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liación del sistema energético, y adquisición de generadores aislados para abastecer de energía en caso de falta de la mis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liación de la Red de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liación de Red Vial, a los fines de la interconexión de polos indust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218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arques Industriale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que Industrial “La Isla”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evos Parques Indust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Refuncionalización y acondicionamiento del Parque Industrial “La Isla”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(149 h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68360" y="2201760"/>
            <a:ext cx="583272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vial interna pavimentad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brado públic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de distribución de agua potab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exión con Rutas Nacionales Nº 34, 9, 64 y Provinciales Nº 1, 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éfo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de gas natur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pieza y Parquizació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ridad y Vigila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 centr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arques Industriales en el interio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ernánd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Cuatro Bo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otencialidades de los Parques Industria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mentar el crecimiento sostenido y ordenado del sector industr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piciar el desarrollo de zonas o regiones con potenciales sin explotar o mínimamente aprovech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mover capacidades de servicios a las industr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bicación Geográfica Estraté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oblemática de los Parques Industrial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idades de Servicios a la Indust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idades de Recursos Huma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idades de Capacit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ecesidades de Servicios a la Indust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ayos, determinaciones y análi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os de Impacto Ambi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tificaciones de C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yo en la implementación de Norma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cionales Calidad y Gest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ecesidades de Recursos Human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ios por Pasantías en Fáb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ción de Bolsa de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ulación con el sector industrial sobre necesidades específicas de Profesiones y O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ecesidades de Capacitacion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ción de Convenio Marco, para lograr la interacción entre el Programa de Capacitación de la Dirección General de Industria y Comercio. y la RED. VI. TE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r la inserción laboral genuina a través de Capacitaciones de O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aciones para los empleados, mandos medios y gerentes de empre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ILARES DEL DESARROLLO INDUSTR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moción Industrial mediante la Ley Provincial Nº 67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ques Industr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íneas Crediticias Promoc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cciones para fomentar el Comercio Ex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grama de Capacitación a MyPES y PyM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Muchas Gracias por su atenció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356000" y="5931000"/>
            <a:ext cx="4788000" cy="927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280" y="5919840"/>
            <a:ext cx="450072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bjetivos de la Ley 675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opiciar la instalación de industrias y  ampliación de exist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corporación de mano de obra provin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crementar la actividad industrial en zonas de escasa población y tendencia migr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mentar el aprovechamiento racional de los recursos e insumos de la provi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centivar la utilización y el desarrollo de mejoras tecnológ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poyar la expansión y el fortalecimiento de la Micro, Pequeña y Mediana industr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Se da prioridad a industrias derivadas de los sectores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ad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es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í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quellas que el Poder Ejecutivo declare de interés para el desarrollo económico y social de la Provi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ilice materia prima lo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rporación de mano de obra local (10  empleados míni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a la sustitución de importaciones o faciliten exportaciones de la Provinc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gan gran efecto multiplicador en la economía Provinc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lsen a consolidar la industria existente y promuevan actividades agroindustri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endan a una efectiva integración de los procesos productiv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arrollen infraestructura turís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ndiciones a cumplir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ENEFICIOS DE CARÁCTER PROMO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volución de hasta un 30% de la inver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integro de hasta un 50% o Crédito Fiscal por obra de Infraestructura que realizan las empre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ención impositiva Pcial. hasta 10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sidio de hasta 50% a la tasa de interés por créditos para empresas promocionad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ENEFICIOS DE CARÁCTER PROMO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dades en la compra, locación, leasing de bienes muebles, inmuebles del Estado Provin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istencia y Asesoramiento Técnico de Organismos del Es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éstamos de fo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sultados Directos de la Promo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ión Tot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$564.956.726,2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o de Obra Generada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43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601560"/>
            <a:ext cx="7920000" cy="548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457200" y="2614680"/>
          <a:ext cx="403848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61468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33:07Z</dcterms:created>
  <dc:creator>comercio</dc:creator>
  <dc:description/>
  <dc:language>en-US</dc:language>
  <cp:lastModifiedBy>*</cp:lastModifiedBy>
  <dcterms:modified xsi:type="dcterms:W3CDTF">2008-05-29T13:01:12Z</dcterms:modified>
  <cp:revision>31</cp:revision>
  <dc:subject/>
  <dc:title>Diapositiva 1</dc:title>
</cp:coreProperties>
</file>